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5.wmf" ContentType="image/x-wmf"/>
  <Override PartName="/ppt/media/image51.png" ContentType="image/png"/>
  <Override PartName="/ppt/media/image148.png" ContentType="image/png"/>
  <Override PartName="/ppt/media/image49.wmf" ContentType="image/x-wmf"/>
  <Override PartName="/ppt/media/image100.wmf" ContentType="image/x-wmf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0959-2837-4EC4-877E-963B0B35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F21-5FD5-4915-A237-1EDA42DAC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C59C-8F7E-4365-BB4D-90C545DB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379-F932-4641-9C11-F243F43A1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2394-03DA-4B94-A5EB-FD8C878A5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8D40-7228-4B8B-86CE-1F1ECB878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CC25-305E-4155-9BF7-8EBF8BA17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397D-0982-411A-AED1-A5EC30106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AE6E-160E-4C3A-ACE0-5BDDAC14C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6963-9A9B-4C26-B75E-44E162DE3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D38A-5318-45BF-A0C2-0B41C7928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4FF-315B-4D25-BE01-9F2AB4091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4AA6-CB5B-4914-A33B-F5D00EBD7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347B-EC6B-4236-B28F-1EAB56092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CBBD-24B2-4695-B6E1-71536D6F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A600-78DE-4F13-981C-86E0C6442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3802-B079-45BA-B50E-A9153A8DB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4BE1-050E-4D73-AD57-9AB6EEDAF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599D-A5C8-4FE1-9547-AF344C6A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B251-4FF3-48C6-BC7A-0B3984AE3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C499-2440-44BB-896D-87CB33F1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67DF-63A9-47CE-B575-929FA9E77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EDB1-03A6-4C16-808A-3705A1071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DA4E-DC78-46A4-B8AC-339C8BE2C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28D7-52CB-4C38-A6C3-5C19F47AA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422-7D0E-4EE0-BE5F-E87ECAF93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5E9A-4CC5-4716-95F7-4049E3F51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CB6-4F82-4EBA-883A-B24F2BB39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13208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ngela Michaliga</cp:lastModifiedBy>
  <dcterms:modified xsi:type="dcterms:W3CDTF">2012-12-17T14:19:27Z</dcterms:modified>
  <cp:revision>94</cp:revision>
  <dc:subject>Keyboarding</dc:subject>
  <dc:title>Kindergarten Adventures in Keyboarding</dc:title>
</cp:coreProperties>
</file>